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80A-AF77-41B8-87EF-6387A9DA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52C-AAD5-41B4-999D-63800692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7A6-50D7-4AB7-B446-5FC37992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E13-315B-4D93-9369-9B0896BE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A87-192E-48EB-986A-739DBD59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EA5-CC91-45F9-9A94-CC0126DA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E3D-5502-45B3-ABF9-3EC4C758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C13-22FA-48D1-AEF1-8779E545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276-5DBF-491C-A6B5-D34D9949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E43-D8AB-4CF6-80B3-35967BE4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0AF-4D76-45F1-B9CC-BDEA7E20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1C7-53F9-4942-B19C-EC6EE15D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1367-B93C-4539-9FCF-EDE171B95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Desktop/Clark_Christy/student_samples/salmon%20newsletter.pub" TargetMode="External"/><Relationship Id="rId3" Type="http://schemas.openxmlformats.org/officeDocument/2006/relationships/hyperlink" Target="file:///../Desktop/Clark_Christy/student_samples/salmon%20newsletter.pub" TargetMode="External"/><Relationship Id="rId4" Type="http://schemas.openxmlformats.org/officeDocument/2006/relationships/hyperlink" Target="file:///../Desktop/Clark_Christy/student_samples/salmon%20newsletter.pub" TargetMode="External"/><Relationship Id="rId5" Type="http://schemas.openxmlformats.org/officeDocument/2006/relationships/hyperlink" Target="file:///../Desktop/Clark_Christy/student_samples/salmon%20newsletter.pub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engineergirl.org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ntique Olive"/>
              </a:rPr>
              <a:t>Swimming Up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864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Journey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ne Cl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C Works Teen Parent Pro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1120" y="3429000"/>
            <a:ext cx="44956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Desktop\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ark_Christy\student_samples\salmo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ewsletter.p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1828440"/>
            <a:ext cx="5638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arch Salmon Habitat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 an historical salmon habi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 how to use Vernier p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and analyze accuarat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plan to improve the habit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type of media on restoration and maintenance of Salmon habi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 progres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2408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66880" y="22856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almon Habita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e a historical salmon ha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how to use Vernier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nd analyze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a plan to improve the habi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a type of media on restoration and maintenance of Salmon habi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33360" y="1828440"/>
            <a:ext cx="65530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our role in the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2880" y="3580920"/>
            <a:ext cx="373392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ngineergir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66880" y="3200040"/>
            <a:ext cx="60199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impact our water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reverse damage that man has ca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we can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science careers effect change in our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52320" y="2361960"/>
            <a:ext cx="53341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necessary components of a good salmon habit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 collect data and display it in a grap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 figure the rate of water mov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fast should the water be moving for good habit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es healthy water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mpact does industry have on habita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mprove water qua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salmon life cyc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salmon fit historical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areers in science match my interes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of Using Project Approaches, Ongoing Assessment, and CFQs in My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6880" y="2057040"/>
            <a:ext cx="6477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labo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peers to collect data to understand the health of their water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oss-Curr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to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reading and wr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 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see their role in the world  can make it a better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v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71800" y="2971800"/>
            <a:ext cx="54864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Assessment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ion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for final project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nier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33920" y="2895480"/>
            <a:ext cx="4952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bidity 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42:21Z</dcterms:created>
  <dc:creator>Christine.Clark</dc:creator>
  <dc:description/>
  <dc:language>en-US</dc:language>
  <cp:lastModifiedBy>Christine.Clark</cp:lastModifiedBy>
  <dcterms:modified xsi:type="dcterms:W3CDTF">2010-08-06T19:32:05Z</dcterms:modified>
  <cp:revision>12</cp:revision>
  <dc:subject/>
  <dc:title>Swimming Upstream</dc:title>
</cp:coreProperties>
</file>